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51053-9D82-4BC5-9028-6F57B46EA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DB315-3150-4F81-9DD3-0ADD063F9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BFCFE-9A27-4A9E-B7EB-809E5A3C8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6B70B-7ACC-43A2-BC53-974C17181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C1D0B-5F3C-4104-9AE2-4448683BC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CDB13-7A34-49A1-AA52-7BA223C78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C9475-5156-461E-9879-92D270481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E6D7B-F606-4CB3-A2B2-1A4F7F69D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95422-3908-44DD-8F9A-FBA342F58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FEC8-4845-4CC3-BD83-6A47D2B68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5AA8B-A7CD-41EC-BF53-F2A7187DC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57317-EA40-4DFE-97A1-DD2DA4E08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3E9F-8A83-4377-AE7D-B25D220772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piegel.de/fotostrecke/photo-gallery-tensions-rise-over-roma-in-duisburg-fotostrecke-88676-8.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Relationships:</a:t>
            </a:r>
            <a:br>
              <a:rPr sz="4000"/>
            </a:br>
            <a:br>
              <a:rPr sz="4000"/>
            </a:br>
            <a:r>
              <a:rPr b="0" lang="en-US" sz="4000" spc="-1" strike="noStrike">
                <a:solidFill>
                  <a:srgbClr val="000000"/>
                </a:solidFill>
                <a:latin typeface="Times New Roman"/>
              </a:rPr>
              <a:t>Immigrant Children’s Complicated Search for Identity</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Gabrielle Fal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ograph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excerpt-from-we-new-germans-a-858622.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the-new-germans-three-children-of-immigrants-share-their-stories-a-858563.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international/germany/conditions-little-better-for-roma-immigrants-in-germany-a-862270.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piegel.de/fotostrecke/photo-gallery-tensions-rise-over-roma-in-duisburg-fotostrecke-88676-7.htm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533520"/>
            <a:ext cx="8229600" cy="5821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hildren of immigrants, many second-generation Germans have trouble feeling at home in the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y travel to the countries of their parents' origin, they may have an understanding of the culture, but they still feel alie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eople ask questions such as "Are you more Vietnamese or more German?“ they sometimes say: "I'm both" or "I'm nei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know it secondhand: the sense of having a homeland that our German friends feel because they inherited their place in this coun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lack something that their German friends, acquaintances and coworkers have: a place that they don't just come from, but where they belong, where they can find answers to their own questions and encounter others who are like them. They, on the other hand, come from nowhere and belong nowhere. It lies in the no-man's-land between German and foreign 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409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international/germany/excerpt-from-we-new-germans-a-858622.html</a:t>
            </a:r>
            <a:endParaRPr b="0" lang="en-US" sz="1200" spc="-1" strike="noStrike">
              <a:solidFill>
                <a:srgbClr val="000000"/>
              </a:solidFill>
              <a:latin typeface="Arial"/>
            </a:endParaRPr>
          </a:p>
        </p:txBody>
      </p:sp>
      <p:sp>
        <p:nvSpPr>
          <p:cNvPr id="45" name="PlaceHolder 2"/>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wo generations of Turkish immigrants at the Ford plant in Cologne, Germany: Alien in Germany and foreign in Turke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Two generations of Turkish immigrants at the Ford plant in Cologne, Germany: Alien in Germany and foreign in Turkey."/>
          <p:cNvPicPr/>
          <p:nvPr/>
        </p:nvPicPr>
        <p:blipFill>
          <a:blip r:embed="rId1"/>
          <a:stretch/>
        </p:blipFill>
        <p:spPr>
          <a:xfrm>
            <a:off x="457200" y="1600200"/>
            <a:ext cx="8229600" cy="395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he past 50 years, Germany has experienced the first influx of immigrants in its histo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hing unites Khuê Pham, Özlem Topçu and Alice Bota: They are German citizens and the children of migrants in a country that has long struggled to define its relationship with foreigner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ce Bota was born in Krapkowice, Poland, in 1979 and moved with her parents to Germany at the age of eigh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uê Pham was born in Berlin in 1982. Her parents are from Vietnam.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Özlem Topçu was born in 1977 in Flensburg, Germany.  She is of Turkish Decen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409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international/germany/the-new-germans-three-children-of-immigrants-share-their-stories-a-858563.html</a:t>
            </a:r>
            <a:endParaRPr b="0" lang="en-US" sz="1200" spc="-1" strike="noStrike">
              <a:solidFill>
                <a:srgbClr val="000000"/>
              </a:solidFill>
              <a:latin typeface="Arial"/>
            </a:endParaRPr>
          </a:p>
        </p:txBody>
      </p:sp>
      <p:sp>
        <p:nvSpPr>
          <p:cNvPr id="49" name="PlaceHolder 2"/>
          <p:cNvSpPr>
            <a:spLocks noGrp="1"/>
          </p:cNvSpPr>
          <p:nvPr>
            <p:ph/>
          </p:nvPr>
        </p:nvSpPr>
        <p:spPr>
          <a:xfrm>
            <a:off x="457200" y="15228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ft to right: Khuê Pham, Özlem Topçu and Alice Bota</a:t>
            </a:r>
            <a:endParaRPr b="0" lang="en-US" sz="2400" spc="-1" strike="noStrike">
              <a:solidFill>
                <a:srgbClr val="000000"/>
              </a:solidFill>
              <a:latin typeface="Arial"/>
            </a:endParaRPr>
          </a:p>
        </p:txBody>
      </p:sp>
      <p:pic>
        <p:nvPicPr>
          <p:cNvPr id="50" name="" descr="Khuê Pham, Özlem Topçu and Alice Bota: 'Those who grow up in Germany are Germans.'"/>
          <p:cNvPicPr/>
          <p:nvPr/>
        </p:nvPicPr>
        <p:blipFill>
          <a:blip r:embed="rId1"/>
          <a:stretch/>
        </p:blipFill>
        <p:spPr>
          <a:xfrm>
            <a:off x="457200" y="1295280"/>
            <a:ext cx="8229600" cy="395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ing a better life and a future for their children, tens of thousands of Roma have come to Germany in recent year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nians and Bulgarians have come to the country's Ruhr region in the populous state of North Rhine-Westphalia.</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hope to escape the poverty and marginalization they experience in their home countri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remain outsiders in their new home too. Many of them can’t get jobs. Crime is higher.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y arrive in Germany, they realize the supposed “promise land” isn’t as welcoming as they’d hoped.</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1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iegel.de/fotostrecke/photo-gallery-tensions-rise-over-roma-in-duisburg-fotostrecke-88676-7.html</a:t>
            </a:r>
            <a:endParaRPr b="0" lang="en-US" sz="1200" spc="-1" strike="noStrike">
              <a:solidFill>
                <a:srgbClr val="000000"/>
              </a:solidFill>
              <a:latin typeface="Arial"/>
            </a:endParaRPr>
          </a:p>
        </p:txBody>
      </p:sp>
      <p:sp>
        <p:nvSpPr>
          <p:cNvPr id="53" name="PlaceHolder 2"/>
          <p:cNvSpPr>
            <a:spLocks noGrp="1"/>
          </p:cNvSpPr>
          <p:nvPr>
            <p:ph/>
          </p:nvPr>
        </p:nvSpPr>
        <p:spPr>
          <a:xfrm>
            <a:off x="457200" y="304560"/>
            <a:ext cx="822960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 have also reportedly been attacks on Roma immigrants by people wearing masks. </a:t>
            </a:r>
            <a:endParaRPr b="0" lang="en-US" sz="2400" spc="-1" strike="noStrike">
              <a:solidFill>
                <a:srgbClr val="000000"/>
              </a:solidFill>
              <a:latin typeface="Arial"/>
            </a:endParaRPr>
          </a:p>
        </p:txBody>
      </p:sp>
      <p:pic>
        <p:nvPicPr>
          <p:cNvPr id="54" name="" descr="There have also reportedly been attacks on Roma immigrants by people wearing...">
            <a:hlinkClick r:id="rId1"/>
          </p:cNvPr>
          <p:cNvPicPr/>
          <p:nvPr/>
        </p:nvPicPr>
        <p:blipFill>
          <a:blip r:embed="rId2"/>
          <a:stretch/>
        </p:blipFill>
        <p:spPr>
          <a:xfrm>
            <a:off x="990720" y="1143000"/>
            <a:ext cx="7086600" cy="479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iz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e past ____ years, Germany has experienced its first influx of immigrants in its history.</a:t>
            </a:r>
            <a:endParaRPr b="0" lang="en-US" sz="28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a:p>
            <a:pPr marL="603360" indent="-60336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group of new immigrants have been treated badly in Germany?</a:t>
            </a:r>
            <a:endParaRPr b="0" lang="en-US" sz="28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ma</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s</a:t>
            </a:r>
            <a:endParaRPr b="0" lang="en-US" sz="2400" spc="-1" strike="noStrike">
              <a:solidFill>
                <a:srgbClr val="000000"/>
              </a:solidFill>
              <a:latin typeface="Arial"/>
            </a:endParaRPr>
          </a:p>
          <a:p>
            <a:pPr lvl="1" marL="980640" indent="-528120">
              <a:lnSpc>
                <a:spcPct val="100000"/>
              </a:lnSpc>
              <a:spcBef>
                <a:spcPts val="601"/>
              </a:spcBef>
              <a:buClr>
                <a:srgbClr val="000000"/>
              </a:buClr>
              <a:buFont typeface="Times New Roman"/>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i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b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B) 50 years </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 Ro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1:53:28Z</dcterms:created>
  <dc:creator>SCSadmin</dc:creator>
  <dc:description/>
  <dc:language>en-US</dc:language>
  <cp:lastModifiedBy>SCSadmin</cp:lastModifiedBy>
  <dcterms:modified xsi:type="dcterms:W3CDTF">2012-10-24T11:51:11Z</dcterms:modified>
  <cp:revision>5</cp:revision>
  <dc:subject/>
  <dc:title>Social Relationships:  Immigrant Children’s Complicated Search for Identity </dc:title>
</cp:coreProperties>
</file>